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27D-9466-4568-87C2-79FCBC26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FEF-79BA-48EA-9856-F188575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C91-F1E2-4AB1-9CAB-1F71F369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8F3-CB2C-430D-A6B6-77AF5D74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E1CA-4C76-4426-912A-7602AB24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B603-D10A-410E-9A50-ECC97BB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CC96-39EC-4131-B123-8FB354B0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75C5-24A3-420D-9916-DBD926E4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187D-4785-4450-BB8F-FE98E570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0CB1-8F3A-4749-8D12-CBFD2A0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4BA7-A1C8-4D76-838C-5E05BF5C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3EC-6683-4281-A83B-09B68E0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BF63-8447-4AE3-9F23-F3B46B1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FC5-F0DA-4EC7-BBF6-5A16DF6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E66B-BA98-40F3-BD09-E578A021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0121-D939-4E29-BAA8-7EF9F190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CE78-9D99-4874-8036-F7A33059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CF3-8AB1-4E0C-B530-EA14D928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8B4-D5B1-4D93-BF85-23E59041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4FC-C02D-47D1-BBB3-513C495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906-F266-4B92-8705-08206390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62C-7342-4382-A689-18812BF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74E-1604-4A7A-901C-D4220A79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680-899B-494F-9756-195D7F8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222B-FBDA-41CC-BF61-A934917CE3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A09D-5827-4DD3-98DD-8645FF3058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wey Decimal Classific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D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60199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cArthur Elementary Schoo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and of 10,00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y this MA curriculum framework to everyday lif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N.7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pare and or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egers (including negative integers), and positive fractions, mixed number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cim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percen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y this MA curriculum framework to everyday lif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N.6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ind and posi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egers, fractions, mixed numbers,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cimal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oth positive and negative)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on the number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dd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can you find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e giant number 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t MacArthur Elementary Schoo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h, one more question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you like to be 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helf help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onsor a shelf to keep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helve some books from the return car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e Ms. Kensle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eater than?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gt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Less than?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8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9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2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001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02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eater than?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gt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Less than?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31.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1.9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6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1.4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eater than?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gt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Less than?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11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22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9.29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9.6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7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7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eater than?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gt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Less than?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116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22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9.297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9.6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7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695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Cares, Anywa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a Super"/>
              </a:rPr>
              <a:t>You!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a Super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cause . . 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rowse </a:t>
            </a:r>
            <a:r>
              <a:rPr b="0" i="1" lang="en-US" sz="5400" spc="-1" strike="noStrike">
                <a:solidFill>
                  <a:srgbClr val="ff0000"/>
                </a:solidFill>
                <a:latin typeface="Comic Sans MS"/>
              </a:rPr>
              <a:t>with a focu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2819160"/>
            <a:ext cx="5562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uickly </a:t>
            </a:r>
            <a:r>
              <a:rPr b="0" i="1" lang="en-US" sz="4800" spc="-1" strike="noStrike">
                <a:solidFill>
                  <a:srgbClr val="ff0000"/>
                </a:solidFill>
                <a:latin typeface="Comic Sans MS"/>
              </a:rPr>
              <a:t>find one particular book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n a large col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6324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nd books etc. in </a:t>
            </a:r>
            <a:r>
              <a:rPr b="0" i="1" lang="en-US" sz="4800" spc="-1" strike="noStrike">
                <a:solidFill>
                  <a:srgbClr val="ff0000"/>
                </a:solidFill>
                <a:latin typeface="Comic Sans MS"/>
              </a:rPr>
              <a:t>any public librar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n 135 countries (wow!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5:57:13Z</dcterms:created>
  <dc:creator>Timothy Kenslea</dc:creator>
  <dc:description/>
  <dc:language>en-US</dc:language>
  <cp:lastModifiedBy>Timothy Kenslea</cp:lastModifiedBy>
  <dcterms:modified xsi:type="dcterms:W3CDTF">2008-04-09T22:49:27Z</dcterms:modified>
  <cp:revision>17</cp:revision>
  <dc:subject/>
  <dc:title>Dewey Decimal Classification</dc:title>
</cp:coreProperties>
</file>